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2BF-9BDB-4E8D-A2B0-89CFF8D3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E50-5CA0-4586-8097-66D28A1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F64-5680-484A-A38C-2A04AA0D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29A-F9AD-4525-89E0-7925231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1D9-E3E5-47C6-AFD9-9E4BC69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7EC-F804-42F3-9075-73FC285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2AC-DE32-40FF-8345-AD587C4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36C-00C5-47CC-B179-3B945B5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3CE-A238-4FD6-BE85-BFFBBB9F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D2B-B761-4F46-8F3C-973972AB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BB1-70EF-4699-B4B9-F7BE334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C7D-05A3-437F-A379-38E4107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9AAC-0991-405D-96C0-5B0A8E93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6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يهـا الأحبـّه، أيها الأحبه ، أسلكوا في المحبّـ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يحـبَّ بعضُنا بعضاً،    فـإنَّ ألله محبّــــ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7467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6002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ذاً أحبَّ بعضُنا بعضاً أقام ألله فينا وتمّتْ محبتُه فينـ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1828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ـــــذا يُقيـــــمُ ألله فينــا ونقيــمُ في ألل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1760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2:13Z</dcterms:created>
  <dc:creator>SUZANNE.MD</dc:creator>
  <dc:description/>
  <dc:language>en-US</dc:language>
  <cp:lastModifiedBy>HANI SAFI</cp:lastModifiedBy>
  <dcterms:modified xsi:type="dcterms:W3CDTF">2003-05-22T04:51:52Z</dcterms:modified>
  <cp:revision>2</cp:revision>
  <dc:subject/>
  <dc:title>PowerPoint Presentation</dc:title>
</cp:coreProperties>
</file>